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30EA-8A0D-4854-8F75-9EFDB8D94B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F7B6-4BAC-49D3-AF5B-1B26467D0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897E-1D5A-4C53-9B43-B8AF528F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9C42-24F6-405F-B6C5-A7C0B40A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8564F-F694-44AA-9787-C28882E0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E610-9E4B-4D05-A868-3787EEB3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4439-883A-4B65-8E55-2AEEEB66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BA20-8DF7-4CDD-9E68-63BF7EBB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1E58-A792-468F-A8AE-09D93D62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D9D4-848B-41ED-817F-D742C29D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11A6-C9AD-40A9-B01B-265E860F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D9B8-726B-417D-B918-D836425A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B492-E28D-430E-919B-4B70C6A5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76806-BE6C-4378-BBF6-A6826032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C61E-B499-40DB-9B0B-7664FA88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847B-A789-4224-A476-3AFC35D9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A72F-D4F0-444B-B08B-02162C88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5795-CAA9-46B1-BFB2-FDCC9903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5BB8-B0E2-4C0F-9BBB-BF477C08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AAA4-4C0A-496D-B130-0F33CDE1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964E-1877-4DFB-A275-E4BC2E4D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F9E2-41EB-4506-9954-52241B86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A132-0DF4-492C-8A32-74252725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3062-73B5-49DD-B4FA-527D6BFD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3BC8-45F4-4E14-8EDA-79DDC052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8A3F-AD5D-46B7-BCD8-2B0B4A7F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A7FD-B049-40BA-966E-9E7BCDD308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9E5B-E157-4174-966B-56DECB5825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79280" y="1267920"/>
            <a:ext cx="626436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ешение задач на клетчатой бумаг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979640" y="4365720"/>
            <a:ext cx="686736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ЕГЭ. В4. Для старшей школы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929160" y="50004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27801"/>
          <p:cNvPicPr/>
          <p:nvPr/>
        </p:nvPicPr>
        <p:blipFill>
          <a:blip r:embed="rId1"/>
          <a:stretch/>
        </p:blipFill>
        <p:spPr>
          <a:xfrm>
            <a:off x="571680" y="1071720"/>
            <a:ext cx="2678040" cy="26431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5572440" y="35712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27802"/>
          <p:cNvPicPr/>
          <p:nvPr/>
        </p:nvPicPr>
        <p:blipFill>
          <a:blip r:embed="rId2"/>
          <a:stretch/>
        </p:blipFill>
        <p:spPr>
          <a:xfrm>
            <a:off x="5214960" y="1000080"/>
            <a:ext cx="2652840" cy="26179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7"/>
          <p:cNvSpPr/>
          <p:nvPr/>
        </p:nvSpPr>
        <p:spPr>
          <a:xfrm>
            <a:off x="12600" y="3643200"/>
            <a:ext cx="360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гипотенуз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а, 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роны квадра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ок равны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8"/>
              <p:cNvSpPr txBox="1"/>
              <p:nvPr/>
            </p:nvSpPr>
            <p:spPr>
              <a:xfrm>
                <a:off x="0" y="5786280"/>
                <a:ext cx="45720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TextBox 9"/>
          <p:cNvSpPr/>
          <p:nvPr/>
        </p:nvSpPr>
        <p:spPr>
          <a:xfrm>
            <a:off x="4304880" y="3643200"/>
            <a:ext cx="492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биссектри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а АВ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ную из вер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, если стороны квадра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ок равны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1"/>
          <p:cNvSpPr/>
          <p:nvPr/>
        </p:nvSpPr>
        <p:spPr>
          <a:xfrm>
            <a:off x="5643720" y="2286000"/>
            <a:ext cx="178596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4733640" y="3786120"/>
            <a:ext cx="3707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угольник АВ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бедр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 – биссектрис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ана, выс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5289120" y="20718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Дата 1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B475-74C2-4FD0-A026-0339A40693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ижний колонтитул 14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50040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578664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27803"/>
          <p:cNvPicPr/>
          <p:nvPr/>
        </p:nvPicPr>
        <p:blipFill>
          <a:blip r:embed="rId1"/>
          <a:stretch/>
        </p:blipFill>
        <p:spPr>
          <a:xfrm>
            <a:off x="214200" y="1071720"/>
            <a:ext cx="2895840" cy="2857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27804"/>
          <p:cNvPicPr/>
          <p:nvPr/>
        </p:nvPicPr>
        <p:blipFill>
          <a:blip r:embed="rId2"/>
          <a:stretch/>
        </p:blipFill>
        <p:spPr>
          <a:xfrm>
            <a:off x="5000760" y="1000080"/>
            <a:ext cx="2895480" cy="2857680"/>
          </a:xfrm>
          <a:prstGeom prst="rect">
            <a:avLst/>
          </a:prstGeom>
          <a:ln w="0">
            <a:noFill/>
          </a:ln>
        </p:spPr>
      </p:pic>
      <p:sp>
        <p:nvSpPr>
          <p:cNvPr id="257" name="TextBox 7"/>
          <p:cNvSpPr/>
          <p:nvPr/>
        </p:nvSpPr>
        <p:spPr>
          <a:xfrm>
            <a:off x="8640" y="3929040"/>
            <a:ext cx="494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меди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а АВ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ную из вер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, если стороны квадра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ок равны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9"/>
          <p:cNvSpPr/>
          <p:nvPr/>
        </p:nvSpPr>
        <p:spPr>
          <a:xfrm flipH="1">
            <a:off x="1643040" y="1500120"/>
            <a:ext cx="1440" cy="1500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1574640" y="30002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937440" y="6211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4929120" y="3786120"/>
            <a:ext cx="4214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вы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а АВ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ущ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торону ВС, если стороны квадра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ок равн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8"/>
              <p:cNvSpPr txBox="1"/>
              <p:nvPr/>
            </p:nvSpPr>
            <p:spPr>
              <a:xfrm>
                <a:off x="7215120" y="5929200"/>
                <a:ext cx="471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3" name="Прямая соединительная линия 15"/>
          <p:cNvSpPr/>
          <p:nvPr/>
        </p:nvSpPr>
        <p:spPr>
          <a:xfrm flipH="1">
            <a:off x="5928840" y="2428920"/>
            <a:ext cx="500040" cy="928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7"/>
          <p:cNvSpPr/>
          <p:nvPr/>
        </p:nvSpPr>
        <p:spPr>
          <a:xfrm>
            <a:off x="6361200" y="2071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9"/>
              <p:cNvSpPr txBox="1"/>
              <p:nvPr/>
            </p:nvSpPr>
            <p:spPr>
              <a:xfrm>
                <a:off x="4572000" y="4286160"/>
                <a:ext cx="435132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авнобедренный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К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М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6" name="TextBox 21"/>
          <p:cNvSpPr/>
          <p:nvPr/>
        </p:nvSpPr>
        <p:spPr>
          <a:xfrm>
            <a:off x="6432120" y="33577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23"/>
          <p:cNvSpPr/>
          <p:nvPr/>
        </p:nvSpPr>
        <p:spPr>
          <a:xfrm>
            <a:off x="6000840" y="3357720"/>
            <a:ext cx="428400" cy="1440"/>
          </a:xfrm>
          <a:prstGeom prst="line">
            <a:avLst/>
          </a:prstGeom>
          <a:ln w="507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25"/>
          <p:cNvSpPr/>
          <p:nvPr/>
        </p:nvSpPr>
        <p:spPr>
          <a:xfrm flipV="1">
            <a:off x="6429240" y="2428920"/>
            <a:ext cx="0" cy="928800"/>
          </a:xfrm>
          <a:prstGeom prst="line">
            <a:avLst/>
          </a:prstGeom>
          <a:ln w="507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Дата 1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345B-06A1-4D21-A13C-179DA38CC2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Нижний колонтитул 22"/>
          <p:cNvSpPr/>
          <p:nvPr/>
        </p:nvSpPr>
        <p:spPr>
          <a:xfrm>
            <a:off x="31431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65304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867640" y="35712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5" descr="27846.bmp"/>
          <p:cNvPicPr/>
          <p:nvPr/>
        </p:nvPicPr>
        <p:blipFill>
          <a:blip r:embed="rId1"/>
          <a:stretch/>
        </p:blipFill>
        <p:spPr>
          <a:xfrm>
            <a:off x="357120" y="1000080"/>
            <a:ext cx="2895840" cy="285768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6" descr="27847.bmp"/>
          <p:cNvPicPr/>
          <p:nvPr/>
        </p:nvPicPr>
        <p:blipFill>
          <a:blip r:embed="rId2"/>
          <a:stretch/>
        </p:blipFill>
        <p:spPr>
          <a:xfrm>
            <a:off x="5429160" y="928800"/>
            <a:ext cx="2814840" cy="27781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7"/>
          <p:cNvSpPr/>
          <p:nvPr/>
        </p:nvSpPr>
        <p:spPr>
          <a:xfrm>
            <a:off x="58320" y="3929040"/>
            <a:ext cx="4652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вы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ллелограмм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ущенную на сторону А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стороны квадра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ок равны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785880" y="1928880"/>
            <a:ext cx="200016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0"/>
          <p:cNvSpPr/>
          <p:nvPr/>
        </p:nvSpPr>
        <p:spPr>
          <a:xfrm>
            <a:off x="2860200" y="1714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1"/>
          <p:cNvSpPr/>
          <p:nvPr/>
        </p:nvSpPr>
        <p:spPr>
          <a:xfrm>
            <a:off x="939240" y="6149880"/>
            <a:ext cx="174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Н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2"/>
          <p:cNvSpPr/>
          <p:nvPr/>
        </p:nvSpPr>
        <p:spPr>
          <a:xfrm>
            <a:off x="4640400" y="3857760"/>
            <a:ext cx="448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диагон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и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стороны квадра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ок равны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4638600" y="5643720"/>
                <a:ext cx="4505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Дата 1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1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7141-B468-4758-B8C9-CFB2AA4036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4"/>
          <p:cNvSpPr/>
          <p:nvPr/>
        </p:nvSpPr>
        <p:spPr>
          <a:xfrm>
            <a:off x="28620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287040" y="35712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Рисунок 5" descr="27848.bmp"/>
          <p:cNvPicPr/>
          <p:nvPr/>
        </p:nvPicPr>
        <p:blipFill>
          <a:blip r:embed="rId1"/>
          <a:stretch/>
        </p:blipFill>
        <p:spPr>
          <a:xfrm>
            <a:off x="285840" y="1071720"/>
            <a:ext cx="2571840" cy="253836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6" descr="27849.bmp"/>
          <p:cNvPicPr/>
          <p:nvPr/>
        </p:nvPicPr>
        <p:blipFill>
          <a:blip r:embed="rId2"/>
          <a:stretch/>
        </p:blipFill>
        <p:spPr>
          <a:xfrm>
            <a:off x="5786280" y="1000080"/>
            <a:ext cx="2714760" cy="26812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7"/>
          <p:cNvSpPr/>
          <p:nvPr/>
        </p:nvSpPr>
        <p:spPr>
          <a:xfrm>
            <a:off x="17640" y="3643200"/>
            <a:ext cx="448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среднюю ли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пеции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стороны квадра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ок равны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9"/>
          <p:cNvSpPr/>
          <p:nvPr/>
        </p:nvSpPr>
        <p:spPr>
          <a:xfrm>
            <a:off x="928800" y="2357280"/>
            <a:ext cx="128592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502560" y="2143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2217240" y="2143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20160" y="5357880"/>
            <a:ext cx="39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N = (4 + 2):2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"/>
          <p:cNvSpPr/>
          <p:nvPr/>
        </p:nvSpPr>
        <p:spPr>
          <a:xfrm>
            <a:off x="4640400" y="3714840"/>
            <a:ext cx="448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пери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хугольника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стороны квадра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ок рав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5"/>
              <p:cNvSpPr txBox="1"/>
              <p:nvPr/>
            </p:nvSpPr>
            <p:spPr>
              <a:xfrm>
                <a:off x="6929280" y="4929120"/>
                <a:ext cx="714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6"/>
              <p:cNvSpPr txBox="1"/>
              <p:nvPr/>
            </p:nvSpPr>
            <p:spPr>
              <a:xfrm>
                <a:off x="3786120" y="5592600"/>
                <a:ext cx="535788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Р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Дата 1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DA55-9A4D-463F-83B7-17E9999753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43848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Рисунок 4" descr="27850.bmp"/>
          <p:cNvPicPr/>
          <p:nvPr/>
        </p:nvPicPr>
        <p:blipFill>
          <a:blip r:embed="rId1"/>
          <a:stretch/>
        </p:blipFill>
        <p:spPr>
          <a:xfrm>
            <a:off x="0" y="1285920"/>
            <a:ext cx="3571920" cy="3422520"/>
          </a:xfrm>
          <a:prstGeom prst="rect">
            <a:avLst/>
          </a:prstGeom>
          <a:ln w="0">
            <a:noFill/>
          </a:ln>
        </p:spPr>
      </p:pic>
      <p:sp>
        <p:nvSpPr>
          <p:cNvPr id="301" name="TextBox 5"/>
          <p:cNvSpPr/>
          <p:nvPr/>
        </p:nvSpPr>
        <p:spPr>
          <a:xfrm>
            <a:off x="3946680" y="857160"/>
            <a:ext cx="448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пери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хугольника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стороны квадра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ок рав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5"/>
              <p:cNvSpPr txBox="1"/>
              <p:nvPr/>
            </p:nvSpPr>
            <p:spPr>
              <a:xfrm>
                <a:off x="6286680" y="2143080"/>
                <a:ext cx="5349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6"/>
              <p:cNvSpPr txBox="1"/>
              <p:nvPr/>
            </p:nvSpPr>
            <p:spPr>
              <a:xfrm>
                <a:off x="3603600" y="3000240"/>
                <a:ext cx="5540400" cy="19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AB75-1016-4273-BE56-93B64F2391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8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29556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5939280" y="35712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5" descr="27851.bmp"/>
          <p:cNvPicPr/>
          <p:nvPr/>
        </p:nvPicPr>
        <p:blipFill>
          <a:blip r:embed="rId1"/>
          <a:stretch/>
        </p:blipFill>
        <p:spPr>
          <a:xfrm>
            <a:off x="214200" y="1000080"/>
            <a:ext cx="2643480" cy="260820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6" descr="27852.bmp"/>
          <p:cNvPicPr/>
          <p:nvPr/>
        </p:nvPicPr>
        <p:blipFill>
          <a:blip r:embed="rId2"/>
          <a:stretch/>
        </p:blipFill>
        <p:spPr>
          <a:xfrm>
            <a:off x="5429160" y="1071720"/>
            <a:ext cx="2776680" cy="2739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17640" y="3500280"/>
            <a:ext cx="448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перим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хугольника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стороны квадра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ок рав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5"/>
              <p:cNvSpPr txBox="1"/>
              <p:nvPr/>
            </p:nvSpPr>
            <p:spPr>
              <a:xfrm>
                <a:off x="2214720" y="4714920"/>
                <a:ext cx="7142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6"/>
              <p:cNvSpPr txBox="1"/>
              <p:nvPr/>
            </p:nvSpPr>
            <p:spPr>
              <a:xfrm>
                <a:off x="285840" y="5184720"/>
                <a:ext cx="3600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Р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4" name="TextBox 10"/>
          <p:cNvSpPr/>
          <p:nvPr/>
        </p:nvSpPr>
        <p:spPr>
          <a:xfrm>
            <a:off x="4640400" y="3857760"/>
            <a:ext cx="448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диагон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хугольни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стороны квадра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ок равны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7"/>
              <p:cNvSpPr txBox="1"/>
              <p:nvPr/>
            </p:nvSpPr>
            <p:spPr>
              <a:xfrm>
                <a:off x="4214880" y="5643720"/>
                <a:ext cx="4608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Дата 1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Номер слайда 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1D17-5703-4F0E-B22B-7B6050CC75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36720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6225120" y="35712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5" descr="27853.bmp"/>
          <p:cNvPicPr/>
          <p:nvPr/>
        </p:nvPicPr>
        <p:blipFill>
          <a:blip r:embed="rId1"/>
          <a:stretch/>
        </p:blipFill>
        <p:spPr>
          <a:xfrm>
            <a:off x="3286080" y="857160"/>
            <a:ext cx="2608200" cy="25718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6"/>
          <p:cNvSpPr/>
          <p:nvPr/>
        </p:nvSpPr>
        <p:spPr>
          <a:xfrm>
            <a:off x="12600" y="928800"/>
            <a:ext cx="360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вы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пеции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ущенную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шины В, 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роны квадра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ок рав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5"/>
              <p:cNvSpPr txBox="1"/>
              <p:nvPr/>
            </p:nvSpPr>
            <p:spPr>
              <a:xfrm>
                <a:off x="2286000" y="3071880"/>
                <a:ext cx="5652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4" name="Прямая соединительная линия 9"/>
          <p:cNvSpPr/>
          <p:nvPr/>
        </p:nvSpPr>
        <p:spPr>
          <a:xfrm>
            <a:off x="3714840" y="2143080"/>
            <a:ext cx="428400" cy="428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1"/>
          <p:cNvSpPr/>
          <p:nvPr/>
        </p:nvSpPr>
        <p:spPr>
          <a:xfrm>
            <a:off x="4146120" y="2571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2"/>
          <p:cNvSpPr/>
          <p:nvPr/>
        </p:nvSpPr>
        <p:spPr>
          <a:xfrm>
            <a:off x="1867680" y="3643200"/>
            <a:ext cx="19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Н = 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6"/>
              <p:cNvSpPr txBox="1"/>
              <p:nvPr/>
            </p:nvSpPr>
            <p:spPr>
              <a:xfrm>
                <a:off x="357120" y="4286160"/>
                <a:ext cx="352584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TextBox 14"/>
          <p:cNvSpPr/>
          <p:nvPr/>
        </p:nvSpPr>
        <p:spPr>
          <a:xfrm>
            <a:off x="5920920" y="857160"/>
            <a:ext cx="32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средню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ию трапе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сторо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ок рав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7"/>
              <p:cNvSpPr txBox="1"/>
              <p:nvPr/>
            </p:nvSpPr>
            <p:spPr>
              <a:xfrm>
                <a:off x="8286840" y="3000240"/>
                <a:ext cx="565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8"/>
              <p:cNvSpPr txBox="1"/>
              <p:nvPr/>
            </p:nvSpPr>
            <p:spPr>
              <a:xfrm>
                <a:off x="4710240" y="3571920"/>
                <a:ext cx="44337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1" name="Дата 1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F2AE-38E0-41A8-AD19-417C3702ED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Управляющая кнопка: возврат 17"/>
          <p:cNvSpPr/>
          <p:nvPr/>
        </p:nvSpPr>
        <p:spPr>
          <a:xfrm>
            <a:off x="8101080" y="6357960"/>
            <a:ext cx="1042920" cy="50004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5034" h="21600">
                <a:moveTo>
                  <a:pt x="0" y="0"/>
                </a:moveTo>
                <a:lnTo>
                  <a:pt x="45034" y="0"/>
                </a:lnTo>
                <a:lnTo>
                  <a:pt x="45034" y="21600"/>
                </a:lnTo>
                <a:lnTo>
                  <a:pt x="0" y="21600"/>
                </a:lnTo>
                <a:close/>
              </a:path>
              <a:path fill="lightenLess" w="45034" h="21600">
                <a:moveTo>
                  <a:pt x="0" y="0"/>
                </a:moveTo>
                <a:lnTo>
                  <a:pt x="45034" y="0"/>
                </a:lnTo>
                <a:lnTo>
                  <a:pt x="43634" y="1400"/>
                </a:lnTo>
                <a:lnTo>
                  <a:pt x="1400" y="1400"/>
                </a:lnTo>
                <a:close/>
              </a:path>
              <a:path fill="darken" w="45034" h="21600">
                <a:moveTo>
                  <a:pt x="45034" y="0"/>
                </a:moveTo>
                <a:lnTo>
                  <a:pt x="45034" y="21600"/>
                </a:lnTo>
                <a:lnTo>
                  <a:pt x="43634" y="20200"/>
                </a:lnTo>
                <a:lnTo>
                  <a:pt x="43634" y="1400"/>
                </a:lnTo>
                <a:close/>
              </a:path>
              <a:path fill="darkenLess" w="45034" h="21600">
                <a:moveTo>
                  <a:pt x="45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34" y="20200"/>
                </a:lnTo>
                <a:close/>
              </a:path>
              <a:path fill="lighten" w="45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034" h="21600">
                <a:moveTo>
                  <a:pt x="15510" y="7493"/>
                </a:moveTo>
                <a:lnTo>
                  <a:pt x="19018" y="7493"/>
                </a:lnTo>
                <a:lnTo>
                  <a:pt x="19018" y="12828"/>
                </a:lnTo>
                <a:cubicBezTo>
                  <a:pt x="19018" y="13751"/>
                  <a:pt x="19819" y="14482"/>
                  <a:pt x="20854" y="14482"/>
                </a:cubicBezTo>
                <a:lnTo>
                  <a:pt x="22517" y="14482"/>
                </a:lnTo>
                <a:cubicBezTo>
                  <a:pt x="23553" y="14482"/>
                  <a:pt x="24353" y="13751"/>
                  <a:pt x="24353" y="12828"/>
                </a:cubicBezTo>
                <a:lnTo>
                  <a:pt x="24353" y="7493"/>
                </a:lnTo>
                <a:lnTo>
                  <a:pt x="22517" y="7493"/>
                </a:lnTo>
                <a:lnTo>
                  <a:pt x="26024" y="3985"/>
                </a:lnTo>
                <a:lnTo>
                  <a:pt x="29697" y="7493"/>
                </a:lnTo>
                <a:lnTo>
                  <a:pt x="27861" y="7493"/>
                </a:lnTo>
                <a:lnTo>
                  <a:pt x="27861" y="12828"/>
                </a:lnTo>
                <a:cubicBezTo>
                  <a:pt x="27861" y="15596"/>
                  <a:pt x="25285" y="18155"/>
                  <a:pt x="22517" y="18155"/>
                </a:cubicBezTo>
                <a:lnTo>
                  <a:pt x="20854" y="18155"/>
                </a:lnTo>
                <a:cubicBezTo>
                  <a:pt x="18087" y="18155"/>
                  <a:pt x="15510" y="15596"/>
                  <a:pt x="1551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00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E93F-E028-46B3-99AB-BFC166891C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70800" y="1214280"/>
            <a:ext cx="80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й угол называется централь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глом окружно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3416040" y="357120"/>
            <a:ext cx="24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ст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0720" y="4786200"/>
            <a:ext cx="786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у равна величина централь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г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9"/>
          <p:cNvSpPr/>
          <p:nvPr/>
        </p:nvSpPr>
        <p:spPr>
          <a:xfrm>
            <a:off x="3500280" y="2500200"/>
            <a:ext cx="2214720" cy="2214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10"/>
          <p:cNvSpPr/>
          <p:nvPr/>
        </p:nvSpPr>
        <p:spPr>
          <a:xfrm flipV="1">
            <a:off x="3929040" y="3643200"/>
            <a:ext cx="642960" cy="857520"/>
          </a:xfrm>
          <a:prstGeom prst="line">
            <a:avLst/>
          </a:prstGeom>
          <a:ln w="349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12"/>
          <p:cNvSpPr/>
          <p:nvPr/>
        </p:nvSpPr>
        <p:spPr>
          <a:xfrm>
            <a:off x="4572000" y="3676680"/>
            <a:ext cx="642960" cy="895320"/>
          </a:xfrm>
          <a:prstGeom prst="line">
            <a:avLst/>
          </a:prstGeom>
          <a:ln w="349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15"/>
          <p:cNvSpPr/>
          <p:nvPr/>
        </p:nvSpPr>
        <p:spPr>
          <a:xfrm>
            <a:off x="4500720" y="3571920"/>
            <a:ext cx="1425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7"/>
          <p:cNvSpPr/>
          <p:nvPr/>
        </p:nvSpPr>
        <p:spPr>
          <a:xfrm>
            <a:off x="3503160" y="442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9"/>
          <p:cNvSpPr/>
          <p:nvPr/>
        </p:nvSpPr>
        <p:spPr>
          <a:xfrm>
            <a:off x="4645440" y="3286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0"/>
          <p:cNvSpPr/>
          <p:nvPr/>
        </p:nvSpPr>
        <p:spPr>
          <a:xfrm>
            <a:off x="5217480" y="4500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9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075F-3FD1-4D7B-AA81-8A4B3B4EE1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3416040" y="357120"/>
            <a:ext cx="24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ст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447480" y="1214280"/>
            <a:ext cx="767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называется вписанным углом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окружность радиус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471960" y="4929120"/>
            <a:ext cx="86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у равна величина вписанного уг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9"/>
          <p:cNvSpPr/>
          <p:nvPr/>
        </p:nvSpPr>
        <p:spPr>
          <a:xfrm>
            <a:off x="3500280" y="2500200"/>
            <a:ext cx="2214720" cy="2214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1"/>
          <p:cNvSpPr/>
          <p:nvPr/>
        </p:nvSpPr>
        <p:spPr>
          <a:xfrm flipV="1">
            <a:off x="3928320" y="2823840"/>
            <a:ext cx="1461960" cy="1676520"/>
          </a:xfrm>
          <a:prstGeom prst="line">
            <a:avLst/>
          </a:prstGeom>
          <a:ln w="349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12"/>
          <p:cNvSpPr/>
          <p:nvPr/>
        </p:nvSpPr>
        <p:spPr>
          <a:xfrm flipV="1">
            <a:off x="4928400" y="2824200"/>
            <a:ext cx="461880" cy="1890720"/>
          </a:xfrm>
          <a:prstGeom prst="line">
            <a:avLst/>
          </a:prstGeom>
          <a:ln w="349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3574440" y="4500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5432040" y="2500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7"/>
          <p:cNvSpPr/>
          <p:nvPr/>
        </p:nvSpPr>
        <p:spPr>
          <a:xfrm>
            <a:off x="4932000" y="4643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1DC7-8D87-4A26-B290-60082DAEBE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3416040" y="357120"/>
            <a:ext cx="24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ст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227880" y="1357200"/>
            <a:ext cx="852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ы знаете о величине вписанных уг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рающихся на одну и ту же дуг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7"/>
          <p:cNvSpPr/>
          <p:nvPr/>
        </p:nvSpPr>
        <p:spPr>
          <a:xfrm>
            <a:off x="2786040" y="2500200"/>
            <a:ext cx="3571920" cy="3571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8"/>
          <p:cNvSpPr/>
          <p:nvPr/>
        </p:nvSpPr>
        <p:spPr>
          <a:xfrm flipV="1">
            <a:off x="3307680" y="2928960"/>
            <a:ext cx="120600" cy="2620800"/>
          </a:xfrm>
          <a:prstGeom prst="line">
            <a:avLst/>
          </a:prstGeom>
          <a:ln w="349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1"/>
          <p:cNvSpPr/>
          <p:nvPr/>
        </p:nvSpPr>
        <p:spPr>
          <a:xfrm>
            <a:off x="3428280" y="2962440"/>
            <a:ext cx="2071800" cy="2895480"/>
          </a:xfrm>
          <a:prstGeom prst="line">
            <a:avLst/>
          </a:prstGeom>
          <a:ln w="349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3"/>
          <p:cNvSpPr/>
          <p:nvPr/>
        </p:nvSpPr>
        <p:spPr>
          <a:xfrm flipV="1">
            <a:off x="3308400" y="2643120"/>
            <a:ext cx="1906560" cy="2906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16"/>
          <p:cNvSpPr/>
          <p:nvPr/>
        </p:nvSpPr>
        <p:spPr>
          <a:xfrm flipH="1" flipV="1">
            <a:off x="5214960" y="2642760"/>
            <a:ext cx="285840" cy="31431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21"/>
          <p:cNvSpPr/>
          <p:nvPr/>
        </p:nvSpPr>
        <p:spPr>
          <a:xfrm flipV="1">
            <a:off x="3307680" y="4071600"/>
            <a:ext cx="3049560" cy="1477800"/>
          </a:xfrm>
          <a:prstGeom prst="line">
            <a:avLst/>
          </a:prstGeom>
          <a:ln w="349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24"/>
          <p:cNvSpPr/>
          <p:nvPr/>
        </p:nvSpPr>
        <p:spPr>
          <a:xfrm flipV="1">
            <a:off x="5500080" y="4071600"/>
            <a:ext cx="857160" cy="1785960"/>
          </a:xfrm>
          <a:prstGeom prst="line">
            <a:avLst/>
          </a:prstGeom>
          <a:ln w="349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Дуга 29"/>
          <p:cNvSpPr/>
          <p:nvPr/>
        </p:nvSpPr>
        <p:spPr>
          <a:xfrm rot="6145200">
            <a:off x="3033000" y="3037320"/>
            <a:ext cx="871200" cy="914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Дуга 30"/>
          <p:cNvSpPr/>
          <p:nvPr/>
        </p:nvSpPr>
        <p:spPr>
          <a:xfrm rot="9322800">
            <a:off x="4650480" y="2711160"/>
            <a:ext cx="871560" cy="914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Дуга 31"/>
          <p:cNvSpPr/>
          <p:nvPr/>
        </p:nvSpPr>
        <p:spPr>
          <a:xfrm rot="9988200">
            <a:off x="5589000" y="3898440"/>
            <a:ext cx="679320" cy="8352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CDC0-9320-491E-84A1-A562E92642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2040" y="642960"/>
            <a:ext cx="921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хождение значений тригонометрических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ля углов, изображенных  на клетчатой бума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20880" y="1857240"/>
            <a:ext cx="709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2. Нахождение отрезков в треугольник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четырехугольн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136080" y="3143160"/>
            <a:ext cx="79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3. Нахождение углов, вписанных в окруж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39960" y="4000680"/>
            <a:ext cx="838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4. Нахождение радиусов вписанной и описа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кружностей около треугольник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четырехуг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Управляющая кнопка: далее 8"/>
          <p:cNvSpPr/>
          <p:nvPr/>
        </p:nvSpPr>
        <p:spPr>
          <a:xfrm>
            <a:off x="8101080" y="6286680"/>
            <a:ext cx="1042920" cy="571320"/>
          </a:xfrm>
          <a:custGeom>
            <a:avLst/>
            <a:gdLst>
              <a:gd name="textAreaLeft" fmla="*/ 36720 w 1042920"/>
              <a:gd name="textAreaRight" fmla="*/ 1006200 w 10429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9419" h="21600">
                <a:moveTo>
                  <a:pt x="0" y="0"/>
                </a:moveTo>
                <a:lnTo>
                  <a:pt x="39419" y="0"/>
                </a:lnTo>
                <a:lnTo>
                  <a:pt x="39419" y="21600"/>
                </a:lnTo>
                <a:lnTo>
                  <a:pt x="0" y="21600"/>
                </a:lnTo>
                <a:close/>
              </a:path>
              <a:path fill="lightenLess" w="39419" h="21600">
                <a:moveTo>
                  <a:pt x="0" y="0"/>
                </a:moveTo>
                <a:lnTo>
                  <a:pt x="39419" y="0"/>
                </a:lnTo>
                <a:lnTo>
                  <a:pt x="38019" y="1400"/>
                </a:lnTo>
                <a:lnTo>
                  <a:pt x="1400" y="1400"/>
                </a:lnTo>
                <a:close/>
              </a:path>
              <a:path fill="darken" w="39419" h="21600">
                <a:moveTo>
                  <a:pt x="39419" y="0"/>
                </a:moveTo>
                <a:lnTo>
                  <a:pt x="39419" y="21600"/>
                </a:lnTo>
                <a:lnTo>
                  <a:pt x="38019" y="20200"/>
                </a:lnTo>
                <a:lnTo>
                  <a:pt x="38019" y="1400"/>
                </a:lnTo>
                <a:close/>
              </a:path>
              <a:path fill="darkenLess" w="39419" h="21600">
                <a:moveTo>
                  <a:pt x="39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19" y="20200"/>
                </a:lnTo>
                <a:close/>
              </a:path>
              <a:path fill="lighten" w="39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19" h="21600">
                <a:moveTo>
                  <a:pt x="12703" y="3794"/>
                </a:moveTo>
                <a:lnTo>
                  <a:pt x="26716" y="10800"/>
                </a:lnTo>
                <a:lnTo>
                  <a:pt x="12703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51012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22512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5" descr="27887.bmp"/>
          <p:cNvPicPr/>
          <p:nvPr/>
        </p:nvPicPr>
        <p:blipFill>
          <a:blip r:embed="rId1"/>
          <a:stretch/>
        </p:blipFill>
        <p:spPr>
          <a:xfrm>
            <a:off x="214200" y="928800"/>
            <a:ext cx="2764080" cy="28321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6" descr="27888.bmp"/>
          <p:cNvPicPr/>
          <p:nvPr/>
        </p:nvPicPr>
        <p:blipFill>
          <a:blip r:embed="rId2"/>
          <a:stretch/>
        </p:blipFill>
        <p:spPr>
          <a:xfrm>
            <a:off x="5857920" y="1000080"/>
            <a:ext cx="2757600" cy="2833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7"/>
          <p:cNvSpPr/>
          <p:nvPr/>
        </p:nvSpPr>
        <p:spPr>
          <a:xfrm>
            <a:off x="3218400" y="785880"/>
            <a:ext cx="2332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чи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а АВ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 дай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аду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9"/>
          <p:cNvSpPr/>
          <p:nvPr/>
        </p:nvSpPr>
        <p:spPr>
          <a:xfrm flipH="1">
            <a:off x="642960" y="2357280"/>
            <a:ext cx="928800" cy="9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ая соединительная линия 11"/>
          <p:cNvSpPr/>
          <p:nvPr/>
        </p:nvSpPr>
        <p:spPr>
          <a:xfrm flipH="1" flipV="1">
            <a:off x="1571400" y="2357280"/>
            <a:ext cx="928440" cy="9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3"/>
          <p:cNvSpPr/>
          <p:nvPr/>
        </p:nvSpPr>
        <p:spPr>
          <a:xfrm>
            <a:off x="1431000" y="2000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285840" y="3714840"/>
                <a:ext cx="2886120" cy="27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О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∪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4" name="Прямая соединительная линия 16"/>
          <p:cNvSpPr/>
          <p:nvPr/>
        </p:nvSpPr>
        <p:spPr>
          <a:xfrm flipH="1">
            <a:off x="6286320" y="2357280"/>
            <a:ext cx="928440" cy="9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17"/>
          <p:cNvSpPr/>
          <p:nvPr/>
        </p:nvSpPr>
        <p:spPr>
          <a:xfrm flipH="1" flipV="1">
            <a:off x="7215120" y="2357280"/>
            <a:ext cx="928800" cy="9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8"/>
          <p:cNvSpPr/>
          <p:nvPr/>
        </p:nvSpPr>
        <p:spPr>
          <a:xfrm>
            <a:off x="7003080" y="2000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9"/>
          <p:cNvSpPr/>
          <p:nvPr/>
        </p:nvSpPr>
        <p:spPr>
          <a:xfrm>
            <a:off x="7075440" y="1071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7"/>
              <p:cNvSpPr txBox="1"/>
              <p:nvPr/>
            </p:nvSpPr>
            <p:spPr>
              <a:xfrm>
                <a:off x="5214960" y="3643200"/>
                <a:ext cx="3562200" cy="27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∪</m:t>
                        </m:r>
                        <m:r>
                          <m:rPr>
                            <m:lit/>
                            <m:nor/>
                          </m:rPr>
                          <m:t xml:space="preserve">АМС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М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М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0" name="Дата 2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Номер слайда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BCF6-D82A-496F-A57A-DF0E263836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581400" y="35712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3" descr="27889.bmp"/>
          <p:cNvPicPr/>
          <p:nvPr/>
        </p:nvPicPr>
        <p:blipFill>
          <a:blip r:embed="rId1"/>
          <a:stretch/>
        </p:blipFill>
        <p:spPr>
          <a:xfrm>
            <a:off x="214200" y="1000080"/>
            <a:ext cx="3183120" cy="3143160"/>
          </a:xfrm>
          <a:prstGeom prst="rect">
            <a:avLst/>
          </a:prstGeom>
          <a:ln w="0">
            <a:noFill/>
          </a:ln>
        </p:spPr>
      </p:pic>
      <p:sp>
        <p:nvSpPr>
          <p:cNvPr id="395" name="TextBox 5"/>
          <p:cNvSpPr/>
          <p:nvPr/>
        </p:nvSpPr>
        <p:spPr>
          <a:xfrm>
            <a:off x="3429000" y="928800"/>
            <a:ext cx="514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величину угла АВС. Ответ дайте в граду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6"/>
          <p:cNvSpPr/>
          <p:nvPr/>
        </p:nvSpPr>
        <p:spPr>
          <a:xfrm flipH="1">
            <a:off x="713880" y="2571840"/>
            <a:ext cx="1071720" cy="1071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7"/>
          <p:cNvSpPr/>
          <p:nvPr/>
        </p:nvSpPr>
        <p:spPr>
          <a:xfrm flipH="1" flipV="1">
            <a:off x="1785600" y="2571840"/>
            <a:ext cx="1071720" cy="1071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9"/>
          <p:cNvSpPr/>
          <p:nvPr/>
        </p:nvSpPr>
        <p:spPr>
          <a:xfrm>
            <a:off x="1573920" y="2143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5"/>
              <p:cNvSpPr txBox="1"/>
              <p:nvPr/>
            </p:nvSpPr>
            <p:spPr>
              <a:xfrm>
                <a:off x="3786120" y="2571840"/>
                <a:ext cx="500868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О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∪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В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Дата 2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EB09-E5B8-4706-908D-1725C0FC76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ижний колонтитул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"/>
          <p:cNvSpPr/>
          <p:nvPr/>
        </p:nvSpPr>
        <p:spPr>
          <a:xfrm>
            <a:off x="51012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3" descr="27890.bmp"/>
          <p:cNvPicPr/>
          <p:nvPr/>
        </p:nvPicPr>
        <p:blipFill>
          <a:blip r:embed="rId1"/>
          <a:stretch/>
        </p:blipFill>
        <p:spPr>
          <a:xfrm>
            <a:off x="214200" y="1285920"/>
            <a:ext cx="273852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ая соединительная линия 4"/>
          <p:cNvSpPr/>
          <p:nvPr/>
        </p:nvSpPr>
        <p:spPr>
          <a:xfrm flipH="1">
            <a:off x="714240" y="2571840"/>
            <a:ext cx="857520" cy="92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5"/>
          <p:cNvSpPr/>
          <p:nvPr/>
        </p:nvSpPr>
        <p:spPr>
          <a:xfrm>
            <a:off x="1571760" y="2571840"/>
            <a:ext cx="0" cy="128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1357200" y="2143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3071880" y="1071720"/>
            <a:ext cx="528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градусную величи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ги АС окружности, на которую опирается угол АВ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 дайте в граду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5"/>
              <p:cNvSpPr txBox="1"/>
              <p:nvPr/>
            </p:nvSpPr>
            <p:spPr>
              <a:xfrm>
                <a:off x="3571920" y="3000240"/>
                <a:ext cx="3741840" cy="15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О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0" name="Дата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7DB8-D292-4BCE-B834-9F32C3B02A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0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4"/>
          <p:cNvSpPr/>
          <p:nvPr/>
        </p:nvSpPr>
        <p:spPr>
          <a:xfrm>
            <a:off x="43848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8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2" descr="27891.bmp"/>
          <p:cNvPicPr/>
          <p:nvPr/>
        </p:nvPicPr>
        <p:blipFill>
          <a:blip r:embed="rId1"/>
          <a:stretch/>
        </p:blipFill>
        <p:spPr>
          <a:xfrm>
            <a:off x="285840" y="1357200"/>
            <a:ext cx="3066840" cy="3143520"/>
          </a:xfrm>
          <a:prstGeom prst="rect">
            <a:avLst/>
          </a:prstGeom>
          <a:ln w="0">
            <a:noFill/>
          </a:ln>
        </p:spPr>
      </p:pic>
      <p:sp>
        <p:nvSpPr>
          <p:cNvPr id="415" name="TextBox 3"/>
          <p:cNvSpPr/>
          <p:nvPr/>
        </p:nvSpPr>
        <p:spPr>
          <a:xfrm>
            <a:off x="3500280" y="1285920"/>
            <a:ext cx="52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градусную величи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ги ВС окружности, на которую опирается угол В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 дайте в граду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4"/>
          <p:cNvSpPr/>
          <p:nvPr/>
        </p:nvSpPr>
        <p:spPr>
          <a:xfrm>
            <a:off x="1785960" y="1571760"/>
            <a:ext cx="0" cy="1428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7"/>
          <p:cNvSpPr/>
          <p:nvPr/>
        </p:nvSpPr>
        <p:spPr>
          <a:xfrm>
            <a:off x="1785960" y="3000240"/>
            <a:ext cx="1000080" cy="1000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857240" y="2643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5"/>
              <p:cNvSpPr txBox="1"/>
              <p:nvPr/>
            </p:nvSpPr>
            <p:spPr>
              <a:xfrm>
                <a:off x="3643200" y="3286080"/>
                <a:ext cx="37418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ВО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0" name="Дата 1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1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2CE7-239D-4B5C-908D-FE18903DFA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Управляющая кнопка: возврат 12"/>
          <p:cNvSpPr/>
          <p:nvPr/>
        </p:nvSpPr>
        <p:spPr>
          <a:xfrm>
            <a:off x="8101080" y="6357960"/>
            <a:ext cx="1042920" cy="50004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5034" h="21600">
                <a:moveTo>
                  <a:pt x="0" y="0"/>
                </a:moveTo>
                <a:lnTo>
                  <a:pt x="45034" y="0"/>
                </a:lnTo>
                <a:lnTo>
                  <a:pt x="45034" y="21600"/>
                </a:lnTo>
                <a:lnTo>
                  <a:pt x="0" y="21600"/>
                </a:lnTo>
                <a:close/>
              </a:path>
              <a:path fill="lightenLess" w="45034" h="21600">
                <a:moveTo>
                  <a:pt x="0" y="0"/>
                </a:moveTo>
                <a:lnTo>
                  <a:pt x="45034" y="0"/>
                </a:lnTo>
                <a:lnTo>
                  <a:pt x="43634" y="1400"/>
                </a:lnTo>
                <a:lnTo>
                  <a:pt x="1400" y="1400"/>
                </a:lnTo>
                <a:close/>
              </a:path>
              <a:path fill="darken" w="45034" h="21600">
                <a:moveTo>
                  <a:pt x="45034" y="0"/>
                </a:moveTo>
                <a:lnTo>
                  <a:pt x="45034" y="21600"/>
                </a:lnTo>
                <a:lnTo>
                  <a:pt x="43634" y="20200"/>
                </a:lnTo>
                <a:lnTo>
                  <a:pt x="43634" y="1400"/>
                </a:lnTo>
                <a:close/>
              </a:path>
              <a:path fill="darkenLess" w="45034" h="21600">
                <a:moveTo>
                  <a:pt x="45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34" y="20200"/>
                </a:lnTo>
                <a:close/>
              </a:path>
              <a:path fill="lighten" w="45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034" h="21600">
                <a:moveTo>
                  <a:pt x="15510" y="7493"/>
                </a:moveTo>
                <a:lnTo>
                  <a:pt x="19018" y="7493"/>
                </a:lnTo>
                <a:lnTo>
                  <a:pt x="19018" y="12828"/>
                </a:lnTo>
                <a:cubicBezTo>
                  <a:pt x="19018" y="13751"/>
                  <a:pt x="19819" y="14482"/>
                  <a:pt x="20854" y="14482"/>
                </a:cubicBezTo>
                <a:lnTo>
                  <a:pt x="22517" y="14482"/>
                </a:lnTo>
                <a:cubicBezTo>
                  <a:pt x="23553" y="14482"/>
                  <a:pt x="24353" y="13751"/>
                  <a:pt x="24353" y="12828"/>
                </a:cubicBezTo>
                <a:lnTo>
                  <a:pt x="24353" y="7493"/>
                </a:lnTo>
                <a:lnTo>
                  <a:pt x="22517" y="7493"/>
                </a:lnTo>
                <a:lnTo>
                  <a:pt x="26024" y="3985"/>
                </a:lnTo>
                <a:lnTo>
                  <a:pt x="29697" y="7493"/>
                </a:lnTo>
                <a:lnTo>
                  <a:pt x="27861" y="7493"/>
                </a:lnTo>
                <a:lnTo>
                  <a:pt x="27861" y="12828"/>
                </a:lnTo>
                <a:cubicBezTo>
                  <a:pt x="27861" y="15596"/>
                  <a:pt x="25285" y="18155"/>
                  <a:pt x="22517" y="18155"/>
                </a:cubicBezTo>
                <a:lnTo>
                  <a:pt x="20854" y="18155"/>
                </a:lnTo>
                <a:cubicBezTo>
                  <a:pt x="18087" y="18155"/>
                  <a:pt x="15510" y="15596"/>
                  <a:pt x="1551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6A44-8CE7-4B40-82BD-EBDB13ECA3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3344760" y="285840"/>
            <a:ext cx="24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ст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238320" y="1071720"/>
            <a:ext cx="807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окружность называется вписан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ногоуголь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7"/>
          <p:cNvSpPr/>
          <p:nvPr/>
        </p:nvSpPr>
        <p:spPr>
          <a:xfrm>
            <a:off x="233640" y="3714840"/>
            <a:ext cx="808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окружность называется описан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много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9"/>
          <p:cNvSpPr/>
          <p:nvPr/>
        </p:nvSpPr>
        <p:spPr>
          <a:xfrm>
            <a:off x="4357800" y="1857240"/>
            <a:ext cx="1571400" cy="157176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10"/>
          <p:cNvSpPr/>
          <p:nvPr/>
        </p:nvSpPr>
        <p:spPr>
          <a:xfrm>
            <a:off x="5643720" y="4357800"/>
            <a:ext cx="2214360" cy="221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Группа 29"/>
          <p:cNvGrpSpPr/>
          <p:nvPr/>
        </p:nvGrpSpPr>
        <p:grpSpPr>
          <a:xfrm>
            <a:off x="4214160" y="1714680"/>
            <a:ext cx="1857960" cy="2143080"/>
            <a:chOff x="4214160" y="1714680"/>
            <a:chExt cx="1857960" cy="2143080"/>
          </a:xfrm>
        </p:grpSpPr>
        <p:sp>
          <p:nvSpPr>
            <p:cNvPr id="433" name="Прямая соединительная линия 12"/>
            <p:cNvSpPr/>
            <p:nvPr/>
          </p:nvSpPr>
          <p:spPr>
            <a:xfrm flipV="1">
              <a:off x="4214160" y="2071800"/>
              <a:ext cx="214200" cy="1000080"/>
            </a:xfrm>
            <a:prstGeom prst="line">
              <a:avLst/>
            </a:prstGeom>
            <a:ln w="3168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13"/>
            <p:cNvSpPr/>
            <p:nvPr/>
          </p:nvSpPr>
          <p:spPr>
            <a:xfrm>
              <a:off x="4214880" y="3071880"/>
              <a:ext cx="1428840" cy="785880"/>
            </a:xfrm>
            <a:prstGeom prst="line">
              <a:avLst/>
            </a:prstGeom>
            <a:ln w="3168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17"/>
            <p:cNvSpPr/>
            <p:nvPr/>
          </p:nvSpPr>
          <p:spPr>
            <a:xfrm flipV="1">
              <a:off x="5643720" y="2357280"/>
              <a:ext cx="428400" cy="1500120"/>
            </a:xfrm>
            <a:prstGeom prst="line">
              <a:avLst/>
            </a:prstGeom>
            <a:ln w="3168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19"/>
            <p:cNvSpPr/>
            <p:nvPr/>
          </p:nvSpPr>
          <p:spPr>
            <a:xfrm flipH="1" flipV="1">
              <a:off x="5285880" y="1714680"/>
              <a:ext cx="785880" cy="642960"/>
            </a:xfrm>
            <a:prstGeom prst="line">
              <a:avLst/>
            </a:prstGeom>
            <a:ln w="3168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Прямая соединительная линия 23"/>
            <p:cNvSpPr/>
            <p:nvPr/>
          </p:nvSpPr>
          <p:spPr>
            <a:xfrm flipV="1">
              <a:off x="4429080" y="1714680"/>
              <a:ext cx="857160" cy="357120"/>
            </a:xfrm>
            <a:prstGeom prst="line">
              <a:avLst/>
            </a:prstGeom>
            <a:ln w="3168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Группа 48"/>
          <p:cNvGrpSpPr/>
          <p:nvPr/>
        </p:nvGrpSpPr>
        <p:grpSpPr>
          <a:xfrm>
            <a:off x="5714280" y="4571640"/>
            <a:ext cx="2000880" cy="1929240"/>
            <a:chOff x="5714280" y="4571640"/>
            <a:chExt cx="2000880" cy="1929240"/>
          </a:xfrm>
        </p:grpSpPr>
        <p:sp>
          <p:nvSpPr>
            <p:cNvPr id="439" name="Прямая соединительная линия 30"/>
            <p:cNvSpPr/>
            <p:nvPr/>
          </p:nvSpPr>
          <p:spPr>
            <a:xfrm flipV="1">
              <a:off x="5714280" y="4643280"/>
              <a:ext cx="285480" cy="1214640"/>
            </a:xfrm>
            <a:prstGeom prst="line">
              <a:avLst/>
            </a:prstGeom>
            <a:ln w="3168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31"/>
            <p:cNvSpPr/>
            <p:nvPr/>
          </p:nvSpPr>
          <p:spPr>
            <a:xfrm flipH="1">
              <a:off x="6000120" y="4572000"/>
              <a:ext cx="1428840" cy="71280"/>
            </a:xfrm>
            <a:prstGeom prst="line">
              <a:avLst/>
            </a:prstGeom>
            <a:ln w="3168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35"/>
            <p:cNvSpPr/>
            <p:nvPr/>
          </p:nvSpPr>
          <p:spPr>
            <a:xfrm flipH="1" flipV="1">
              <a:off x="7429320" y="4571640"/>
              <a:ext cx="285480" cy="1428840"/>
            </a:xfrm>
            <a:prstGeom prst="line">
              <a:avLst/>
            </a:prstGeom>
            <a:ln w="3168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37"/>
            <p:cNvSpPr/>
            <p:nvPr/>
          </p:nvSpPr>
          <p:spPr>
            <a:xfrm flipH="1" flipV="1">
              <a:off x="5715000" y="5857920"/>
              <a:ext cx="642960" cy="642960"/>
            </a:xfrm>
            <a:prstGeom prst="line">
              <a:avLst/>
            </a:prstGeom>
            <a:ln w="3168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42"/>
            <p:cNvSpPr/>
            <p:nvPr/>
          </p:nvSpPr>
          <p:spPr>
            <a:xfrm flipV="1">
              <a:off x="6357960" y="6000480"/>
              <a:ext cx="1357200" cy="500040"/>
            </a:xfrm>
            <a:prstGeom prst="line">
              <a:avLst/>
            </a:prstGeom>
            <a:ln w="3168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0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Овал 18"/>
          <p:cNvSpPr/>
          <p:nvPr/>
        </p:nvSpPr>
        <p:spPr>
          <a:xfrm>
            <a:off x="5500800" y="3000240"/>
            <a:ext cx="1643040" cy="1643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367B-102D-4B05-9EBD-A5FEAA0757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228960" y="1071720"/>
            <a:ext cx="773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лежит центр описанной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прямоугольного тре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3344760" y="285840"/>
            <a:ext cx="24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ст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228960" y="2500200"/>
            <a:ext cx="773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лежит центр описанной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прямо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7"/>
          <p:cNvSpPr/>
          <p:nvPr/>
        </p:nvSpPr>
        <p:spPr>
          <a:xfrm>
            <a:off x="293040" y="4500720"/>
            <a:ext cx="749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лежит центр вписанной в квадр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Овал 9"/>
          <p:cNvSpPr/>
          <p:nvPr/>
        </p:nvSpPr>
        <p:spPr>
          <a:xfrm>
            <a:off x="7715160" y="1357200"/>
            <a:ext cx="1214640" cy="1214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ый треугольник 8"/>
          <p:cNvSpPr/>
          <p:nvPr/>
        </p:nvSpPr>
        <p:spPr>
          <a:xfrm>
            <a:off x="7929720" y="1500120"/>
            <a:ext cx="785520" cy="914400"/>
          </a:xfrm>
          <a:prstGeom prst="rtTriangl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Овал 11"/>
          <p:cNvSpPr/>
          <p:nvPr/>
        </p:nvSpPr>
        <p:spPr>
          <a:xfrm flipH="1">
            <a:off x="8214480" y="185724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2"/>
          <p:cNvSpPr/>
          <p:nvPr/>
        </p:nvSpPr>
        <p:spPr>
          <a:xfrm>
            <a:off x="5643720" y="3357720"/>
            <a:ext cx="1357200" cy="914400"/>
          </a:xfrm>
          <a:prstGeom prst="rect">
            <a:avLst/>
          </a:prstGeom>
          <a:solidFill>
            <a:srgbClr val="9999ff">
              <a:alpha val="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14"/>
          <p:cNvSpPr/>
          <p:nvPr/>
        </p:nvSpPr>
        <p:spPr>
          <a:xfrm>
            <a:off x="5643720" y="3357720"/>
            <a:ext cx="1357200" cy="9284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16"/>
          <p:cNvSpPr/>
          <p:nvPr/>
        </p:nvSpPr>
        <p:spPr>
          <a:xfrm flipV="1">
            <a:off x="5643720" y="3357360"/>
            <a:ext cx="1357200" cy="92844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9"/>
          <p:cNvSpPr/>
          <p:nvPr/>
        </p:nvSpPr>
        <p:spPr>
          <a:xfrm>
            <a:off x="6357960" y="5214960"/>
            <a:ext cx="1357200" cy="13572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20"/>
          <p:cNvSpPr/>
          <p:nvPr/>
        </p:nvSpPr>
        <p:spPr>
          <a:xfrm>
            <a:off x="6357960" y="5214960"/>
            <a:ext cx="1357200" cy="1357200"/>
          </a:xfrm>
          <a:prstGeom prst="ellipse">
            <a:avLst/>
          </a:prstGeom>
          <a:noFill/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22"/>
          <p:cNvSpPr/>
          <p:nvPr/>
        </p:nvSpPr>
        <p:spPr>
          <a:xfrm flipV="1">
            <a:off x="6429240" y="5214960"/>
            <a:ext cx="1285920" cy="13572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24"/>
          <p:cNvSpPr/>
          <p:nvPr/>
        </p:nvSpPr>
        <p:spPr>
          <a:xfrm flipH="1" flipV="1">
            <a:off x="6357960" y="5214960"/>
            <a:ext cx="1357200" cy="13572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0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31D2-D154-4BB6-B2F6-0D5EFE19C5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5"/>
          <p:cNvSpPr/>
          <p:nvPr/>
        </p:nvSpPr>
        <p:spPr>
          <a:xfrm>
            <a:off x="3344760" y="285840"/>
            <a:ext cx="24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ст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6"/>
          <p:cNvSpPr/>
          <p:nvPr/>
        </p:nvSpPr>
        <p:spPr>
          <a:xfrm>
            <a:off x="239760" y="1214280"/>
            <a:ext cx="811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связь между стороной прави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угольника и радиусом опис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него окруж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2"/>
              <p:cNvSpPr txBox="1"/>
              <p:nvPr/>
            </p:nvSpPr>
            <p:spPr>
              <a:xfrm>
                <a:off x="3286080" y="2714760"/>
                <a:ext cx="26798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8" name="TextBox 8"/>
          <p:cNvSpPr/>
          <p:nvPr/>
        </p:nvSpPr>
        <p:spPr>
          <a:xfrm>
            <a:off x="244800" y="3714840"/>
            <a:ext cx="785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йти радиус вписанной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реуголь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3643200" y="4381560"/>
                <a:ext cx="184788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0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4"/>
          <p:cNvSpPr/>
          <p:nvPr/>
        </p:nvSpPr>
        <p:spPr>
          <a:xfrm>
            <a:off x="581400" y="35712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9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Рисунок 2" descr="27946.bmp"/>
          <p:cNvPicPr/>
          <p:nvPr/>
        </p:nvPicPr>
        <p:blipFill>
          <a:blip r:embed="rId1"/>
          <a:stretch/>
        </p:blipFill>
        <p:spPr>
          <a:xfrm>
            <a:off x="214200" y="1000080"/>
            <a:ext cx="2968560" cy="2928960"/>
          </a:xfrm>
          <a:prstGeom prst="rect">
            <a:avLst/>
          </a:prstGeom>
          <a:ln w="0">
            <a:noFill/>
          </a:ln>
        </p:spPr>
      </p:pic>
      <p:sp>
        <p:nvSpPr>
          <p:cNvPr id="472" name="TextBox 3"/>
          <p:cNvSpPr/>
          <p:nvPr/>
        </p:nvSpPr>
        <p:spPr>
          <a:xfrm>
            <a:off x="3019680" y="714240"/>
            <a:ext cx="5752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радиус окруж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ной око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уголь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угольника АВ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стороны квадра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ток равны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3714840" y="3643200"/>
                <a:ext cx="2679480" cy="25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BAC8-CC98-474D-9D37-BCB94CFB19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0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4"/>
          <p:cNvSpPr/>
          <p:nvPr/>
        </p:nvSpPr>
        <p:spPr>
          <a:xfrm>
            <a:off x="43848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9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Рисунок 2" descr="27947.bmp"/>
          <p:cNvPicPr/>
          <p:nvPr/>
        </p:nvPicPr>
        <p:blipFill>
          <a:blip r:embed="rId1"/>
          <a:stretch/>
        </p:blipFill>
        <p:spPr>
          <a:xfrm>
            <a:off x="214200" y="1214280"/>
            <a:ext cx="3054600" cy="2928960"/>
          </a:xfrm>
          <a:prstGeom prst="rect">
            <a:avLst/>
          </a:prstGeom>
          <a:ln w="0">
            <a:noFill/>
          </a:ln>
        </p:spPr>
      </p:pic>
      <p:sp>
        <p:nvSpPr>
          <p:cNvPr id="479" name="TextBox 3"/>
          <p:cNvSpPr/>
          <p:nvPr/>
        </p:nvSpPr>
        <p:spPr>
          <a:xfrm>
            <a:off x="3372120" y="1000080"/>
            <a:ext cx="575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радиус окруж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ной око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угольни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стороны квадра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ток равны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5"/>
          <p:cNvSpPr/>
          <p:nvPr/>
        </p:nvSpPr>
        <p:spPr>
          <a:xfrm>
            <a:off x="714240" y="2643120"/>
            <a:ext cx="242892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3943440" y="3714840"/>
            <a:ext cx="2841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D =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 = ½ B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 = 2,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Дата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BE45-BA1B-4F1E-AE58-2181937EAB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0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51012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Рисунок 2" descr="27948.bmp"/>
          <p:cNvPicPr/>
          <p:nvPr/>
        </p:nvPicPr>
        <p:blipFill>
          <a:blip r:embed="rId1"/>
          <a:stretch/>
        </p:blipFill>
        <p:spPr>
          <a:xfrm>
            <a:off x="214200" y="1143000"/>
            <a:ext cx="3059280" cy="3019320"/>
          </a:xfrm>
          <a:prstGeom prst="rect">
            <a:avLst/>
          </a:prstGeom>
          <a:ln w="0">
            <a:noFill/>
          </a:ln>
        </p:spPr>
      </p:pic>
      <p:sp>
        <p:nvSpPr>
          <p:cNvPr id="487" name="TextBox 3"/>
          <p:cNvSpPr/>
          <p:nvPr/>
        </p:nvSpPr>
        <p:spPr>
          <a:xfrm>
            <a:off x="3372120" y="1000080"/>
            <a:ext cx="5752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радиус окруж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исанной в квадра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итая стороны квадра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ток рав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7"/>
              <p:cNvSpPr txBox="1"/>
              <p:nvPr/>
            </p:nvSpPr>
            <p:spPr>
              <a:xfrm>
                <a:off x="6786720" y="2500200"/>
                <a:ext cx="564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9" name="Прямая соединительная линия 5"/>
          <p:cNvSpPr/>
          <p:nvPr/>
        </p:nvSpPr>
        <p:spPr>
          <a:xfrm>
            <a:off x="1214280" y="2143080"/>
            <a:ext cx="500400" cy="501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9"/>
          <p:cNvSpPr/>
          <p:nvPr/>
        </p:nvSpPr>
        <p:spPr>
          <a:xfrm>
            <a:off x="1785960" y="25002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2786040" y="4286160"/>
                <a:ext cx="55418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М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2" name="TextBox 12"/>
          <p:cNvSpPr/>
          <p:nvPr/>
        </p:nvSpPr>
        <p:spPr>
          <a:xfrm>
            <a:off x="928800" y="178596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Дата 1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омер слайда 1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E3D8-2E25-4D13-A811-AE5187C73E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0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281C-09C0-462D-81B1-320B7B2D81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3416040" y="357120"/>
            <a:ext cx="24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ст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02040" y="221472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у рав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315240" y="2143080"/>
            <a:ext cx="234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n 45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3384360" y="2143080"/>
            <a:ext cx="192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g 45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173040" y="2143080"/>
            <a:ext cx="25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s 45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172320" y="2143080"/>
            <a:ext cx="234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n 60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313080" y="2143080"/>
            <a:ext cx="192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g 60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244680" y="2143080"/>
            <a:ext cx="25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s 60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384360" y="2214720"/>
            <a:ext cx="192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g 30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315240" y="2143080"/>
            <a:ext cx="234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n 30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244680" y="2214720"/>
            <a:ext cx="25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s 30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5572080" y="1143000"/>
                <a:ext cx="24098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3"/>
              <p:cNvSpPr txBox="1"/>
              <p:nvPr/>
            </p:nvSpPr>
            <p:spPr>
              <a:xfrm>
                <a:off x="5572080" y="1357200"/>
                <a:ext cx="1695600" cy="25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5643720" y="1143000"/>
                <a:ext cx="233820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5"/>
              <p:cNvSpPr txBox="1"/>
              <p:nvPr/>
            </p:nvSpPr>
            <p:spPr>
              <a:xfrm>
                <a:off x="5572080" y="1785960"/>
                <a:ext cx="13302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5715000" y="1357200"/>
                <a:ext cx="1633680" cy="24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5572080" y="1357200"/>
                <a:ext cx="2214720" cy="24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8"/>
              <p:cNvSpPr txBox="1"/>
              <p:nvPr/>
            </p:nvSpPr>
            <p:spPr>
              <a:xfrm>
                <a:off x="5572080" y="1785960"/>
                <a:ext cx="22226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5572080" y="1357200"/>
                <a:ext cx="2079720" cy="23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0"/>
              <p:cNvSpPr txBox="1"/>
              <p:nvPr/>
            </p:nvSpPr>
            <p:spPr>
              <a:xfrm>
                <a:off x="5643720" y="1357200"/>
                <a:ext cx="2079360" cy="23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4"/>
          <p:cNvSpPr/>
          <p:nvPr/>
        </p:nvSpPr>
        <p:spPr>
          <a:xfrm>
            <a:off x="65304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9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Рисунок 2" descr="27949.bmp"/>
          <p:cNvPicPr/>
          <p:nvPr/>
        </p:nvPicPr>
        <p:blipFill>
          <a:blip r:embed="rId1"/>
          <a:stretch/>
        </p:blipFill>
        <p:spPr>
          <a:xfrm>
            <a:off x="214200" y="1214280"/>
            <a:ext cx="3467160" cy="34102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3"/>
          <p:cNvSpPr/>
          <p:nvPr/>
        </p:nvSpPr>
        <p:spPr>
          <a:xfrm>
            <a:off x="3727800" y="500040"/>
            <a:ext cx="5212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и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ной око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угольника АВ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стороны квадра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ток равны 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аж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7"/>
              <p:cNvSpPr txBox="1"/>
              <p:nvPr/>
            </p:nvSpPr>
            <p:spPr>
              <a:xfrm>
                <a:off x="5429160" y="3429000"/>
                <a:ext cx="803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5"/>
              <p:cNvSpPr txBox="1"/>
              <p:nvPr/>
            </p:nvSpPr>
            <p:spPr>
              <a:xfrm>
                <a:off x="3714840" y="4000680"/>
                <a:ext cx="477180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1" name="Дата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B78C-339D-4A32-8771-992DAB24CA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0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4"/>
          <p:cNvSpPr/>
          <p:nvPr/>
        </p:nvSpPr>
        <p:spPr>
          <a:xfrm>
            <a:off x="51012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9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Рисунок 2" descr="27950.bmp"/>
          <p:cNvPicPr/>
          <p:nvPr/>
        </p:nvPicPr>
        <p:blipFill>
          <a:blip r:embed="rId1"/>
          <a:stretch/>
        </p:blipFill>
        <p:spPr>
          <a:xfrm>
            <a:off x="0" y="1071720"/>
            <a:ext cx="3255840" cy="3214440"/>
          </a:xfrm>
          <a:prstGeom prst="rect">
            <a:avLst/>
          </a:prstGeom>
          <a:ln w="0">
            <a:noFill/>
          </a:ln>
        </p:spPr>
      </p:pic>
      <p:sp>
        <p:nvSpPr>
          <p:cNvPr id="505" name="TextBox 3"/>
          <p:cNvSpPr/>
          <p:nvPr/>
        </p:nvSpPr>
        <p:spPr>
          <a:xfrm>
            <a:off x="2876400" y="928800"/>
            <a:ext cx="6262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радиус окруж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ной око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ого треугольни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итая стороны квадра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ток равными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4214880" y="3429000"/>
                <a:ext cx="275760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39DA-8E28-457F-BFF9-92D5394C26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0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4"/>
          <p:cNvSpPr/>
          <p:nvPr/>
        </p:nvSpPr>
        <p:spPr>
          <a:xfrm>
            <a:off x="51012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9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Рисунок 2" descr="27951.bmp"/>
          <p:cNvPicPr/>
          <p:nvPr/>
        </p:nvPicPr>
        <p:blipFill>
          <a:blip r:embed="rId1"/>
          <a:stretch/>
        </p:blipFill>
        <p:spPr>
          <a:xfrm>
            <a:off x="0" y="1071720"/>
            <a:ext cx="3024360" cy="2985840"/>
          </a:xfrm>
          <a:prstGeom prst="rect">
            <a:avLst/>
          </a:prstGeom>
          <a:ln w="0">
            <a:noFill/>
          </a:ln>
        </p:spPr>
      </p:pic>
      <p:sp>
        <p:nvSpPr>
          <p:cNvPr id="512" name="TextBox 3"/>
          <p:cNvSpPr/>
          <p:nvPr/>
        </p:nvSpPr>
        <p:spPr>
          <a:xfrm>
            <a:off x="2860920" y="500040"/>
            <a:ext cx="597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радиус окруж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исанной в треугольни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итая стороны квадра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ток равными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3429000" y="2500200"/>
                <a:ext cx="4048200" cy="385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B636-DD98-4B00-A3F4-5CB2F5685A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0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4"/>
          <p:cNvSpPr/>
          <p:nvPr/>
        </p:nvSpPr>
        <p:spPr>
          <a:xfrm>
            <a:off x="58140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9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Рисунок 2" descr="27952.bmp"/>
          <p:cNvPicPr/>
          <p:nvPr/>
        </p:nvPicPr>
        <p:blipFill>
          <a:blip r:embed="rId1"/>
          <a:stretch/>
        </p:blipFill>
        <p:spPr>
          <a:xfrm>
            <a:off x="0" y="1143000"/>
            <a:ext cx="2968560" cy="2928960"/>
          </a:xfrm>
          <a:prstGeom prst="rect">
            <a:avLst/>
          </a:prstGeom>
          <a:ln w="0">
            <a:noFill/>
          </a:ln>
        </p:spPr>
      </p:pic>
      <p:sp>
        <p:nvSpPr>
          <p:cNvPr id="519" name="TextBox 3"/>
          <p:cNvSpPr/>
          <p:nvPr/>
        </p:nvSpPr>
        <p:spPr>
          <a:xfrm>
            <a:off x="3135960" y="571680"/>
            <a:ext cx="599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радиус окруж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исанной в четырех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читая сторо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дратных клеток равными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вете укаж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7"/>
              <p:cNvSpPr txBox="1"/>
              <p:nvPr/>
            </p:nvSpPr>
            <p:spPr>
              <a:xfrm>
                <a:off x="6572160" y="2571840"/>
                <a:ext cx="863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4"/>
              <p:cNvSpPr txBox="1"/>
              <p:nvPr/>
            </p:nvSpPr>
            <p:spPr>
              <a:xfrm>
                <a:off x="3857760" y="3071880"/>
                <a:ext cx="3328920" cy="33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вадрат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2" name="Дата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6484-D8A9-46EA-8C37-677E9BB7FB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Нижний колонтитул 8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Управляющая кнопка: возврат 9"/>
          <p:cNvSpPr/>
          <p:nvPr/>
        </p:nvSpPr>
        <p:spPr>
          <a:xfrm>
            <a:off x="8101080" y="6357960"/>
            <a:ext cx="1042920" cy="50004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5034" h="21600">
                <a:moveTo>
                  <a:pt x="0" y="0"/>
                </a:moveTo>
                <a:lnTo>
                  <a:pt x="45034" y="0"/>
                </a:lnTo>
                <a:lnTo>
                  <a:pt x="45034" y="21600"/>
                </a:lnTo>
                <a:lnTo>
                  <a:pt x="0" y="21600"/>
                </a:lnTo>
                <a:close/>
              </a:path>
              <a:path fill="lightenLess" w="45034" h="21600">
                <a:moveTo>
                  <a:pt x="0" y="0"/>
                </a:moveTo>
                <a:lnTo>
                  <a:pt x="45034" y="0"/>
                </a:lnTo>
                <a:lnTo>
                  <a:pt x="43634" y="1400"/>
                </a:lnTo>
                <a:lnTo>
                  <a:pt x="1400" y="1400"/>
                </a:lnTo>
                <a:close/>
              </a:path>
              <a:path fill="darken" w="45034" h="21600">
                <a:moveTo>
                  <a:pt x="45034" y="0"/>
                </a:moveTo>
                <a:lnTo>
                  <a:pt x="45034" y="21600"/>
                </a:lnTo>
                <a:lnTo>
                  <a:pt x="43634" y="20200"/>
                </a:lnTo>
                <a:lnTo>
                  <a:pt x="43634" y="1400"/>
                </a:lnTo>
                <a:close/>
              </a:path>
              <a:path fill="darkenLess" w="45034" h="21600">
                <a:moveTo>
                  <a:pt x="45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34" y="20200"/>
                </a:lnTo>
                <a:close/>
              </a:path>
              <a:path fill="lighten" w="45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034" h="21600">
                <a:moveTo>
                  <a:pt x="15510" y="7493"/>
                </a:moveTo>
                <a:lnTo>
                  <a:pt x="19018" y="7493"/>
                </a:lnTo>
                <a:lnTo>
                  <a:pt x="19018" y="12828"/>
                </a:lnTo>
                <a:cubicBezTo>
                  <a:pt x="19018" y="13751"/>
                  <a:pt x="19819" y="14482"/>
                  <a:pt x="20854" y="14482"/>
                </a:cubicBezTo>
                <a:lnTo>
                  <a:pt x="22517" y="14482"/>
                </a:lnTo>
                <a:cubicBezTo>
                  <a:pt x="23553" y="14482"/>
                  <a:pt x="24353" y="13751"/>
                  <a:pt x="24353" y="12828"/>
                </a:cubicBezTo>
                <a:lnTo>
                  <a:pt x="24353" y="7493"/>
                </a:lnTo>
                <a:lnTo>
                  <a:pt x="22517" y="7493"/>
                </a:lnTo>
                <a:lnTo>
                  <a:pt x="26024" y="3985"/>
                </a:lnTo>
                <a:lnTo>
                  <a:pt x="29697" y="7493"/>
                </a:lnTo>
                <a:lnTo>
                  <a:pt x="27861" y="7493"/>
                </a:lnTo>
                <a:lnTo>
                  <a:pt x="27861" y="12828"/>
                </a:lnTo>
                <a:cubicBezTo>
                  <a:pt x="27861" y="15596"/>
                  <a:pt x="25285" y="18155"/>
                  <a:pt x="22517" y="18155"/>
                </a:cubicBezTo>
                <a:lnTo>
                  <a:pt x="20854" y="18155"/>
                </a:lnTo>
                <a:cubicBezTo>
                  <a:pt x="18087" y="18155"/>
                  <a:pt x="15510" y="15596"/>
                  <a:pt x="1551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0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4F02-748E-47F5-BE24-8C3947ACA1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Прямоугольник 5" descr=""/>
          <p:cNvPicPr/>
          <p:nvPr/>
        </p:nvPicPr>
        <p:blipFill>
          <a:blip r:embed="rId1"/>
          <a:stretch/>
        </p:blipFill>
        <p:spPr>
          <a:xfrm>
            <a:off x="1395360" y="1884240"/>
            <a:ext cx="6529320" cy="2675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0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E321-F6EB-4BD6-BA2B-9212D03F24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"/>
          <p:cNvSpPr/>
          <p:nvPr/>
        </p:nvSpPr>
        <p:spPr>
          <a:xfrm>
            <a:off x="0" y="11566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ем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рытый банк задач ЕГЭ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mathege.ru:8080/or/ege/Main.html;jsessionid=C9E96CF183B30C79B0DD925706ABCCAB?view=P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C5E0-5E1A-4416-92C5-BFD86439D0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3416040" y="357120"/>
            <a:ext cx="24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ст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302040" y="171468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у рав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3071880" y="1714680"/>
                <a:ext cx="3051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6000840" y="1714680"/>
                <a:ext cx="21430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2357280" y="3143160"/>
                <a:ext cx="32166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5857920" y="3214800"/>
                <a:ext cx="27064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5715000" y="4643280"/>
                <a:ext cx="2143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2857680" y="4500720"/>
                <a:ext cx="2716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94F1-7AA1-4EDF-8F7C-E0727E80DE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3416040" y="357120"/>
            <a:ext cx="24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ст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654120" y="1357200"/>
            <a:ext cx="723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формулу нахождения уг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угольника по теореме косину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1714680" y="2571840"/>
                <a:ext cx="630396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900360" y="5493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4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27448"/>
          <p:cNvPicPr/>
          <p:nvPr/>
        </p:nvPicPr>
        <p:blipFill>
          <a:blip r:embed="rId1"/>
          <a:stretch/>
        </p:blipFill>
        <p:spPr>
          <a:xfrm>
            <a:off x="179280" y="1341360"/>
            <a:ext cx="3816360" cy="3765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972000" y="5493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4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972000" y="5493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4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4040640" y="476280"/>
            <a:ext cx="510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синус угла А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вете укаж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синус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оженное 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1"/>
              <p:cNvSpPr txBox="1"/>
              <p:nvPr/>
            </p:nvSpPr>
            <p:spPr>
              <a:xfrm>
                <a:off x="7164360" y="1916280"/>
                <a:ext cx="9511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2"/>
              <p:cNvSpPr txBox="1"/>
              <p:nvPr/>
            </p:nvSpPr>
            <p:spPr>
              <a:xfrm>
                <a:off x="4788000" y="2708280"/>
                <a:ext cx="3529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3"/>
              <p:cNvSpPr txBox="1"/>
              <p:nvPr/>
            </p:nvSpPr>
            <p:spPr>
              <a:xfrm>
                <a:off x="5003640" y="3618000"/>
                <a:ext cx="319248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Text Box 14"/>
          <p:cNvSpPr/>
          <p:nvPr/>
        </p:nvSpPr>
        <p:spPr>
          <a:xfrm>
            <a:off x="3637080" y="500040"/>
            <a:ext cx="551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косинус угла А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вете укаж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косинус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оженное 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5"/>
              <p:cNvSpPr txBox="1"/>
              <p:nvPr/>
            </p:nvSpPr>
            <p:spPr>
              <a:xfrm>
                <a:off x="5076720" y="3618000"/>
                <a:ext cx="333540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Text Box 16"/>
          <p:cNvSpPr/>
          <p:nvPr/>
        </p:nvSpPr>
        <p:spPr>
          <a:xfrm>
            <a:off x="3569760" y="571680"/>
            <a:ext cx="53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тангенс угла А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7"/>
              <p:cNvSpPr txBox="1"/>
              <p:nvPr/>
            </p:nvSpPr>
            <p:spPr>
              <a:xfrm>
                <a:off x="5076720" y="3933720"/>
                <a:ext cx="2664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Дата 1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1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F347-B0CD-4485-A94D-5DE36ECC9E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827280" y="40464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4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27451"/>
          <p:cNvPicPr/>
          <p:nvPr/>
        </p:nvPicPr>
        <p:blipFill>
          <a:blip r:embed="rId1"/>
          <a:stretch/>
        </p:blipFill>
        <p:spPr>
          <a:xfrm>
            <a:off x="179280" y="1484280"/>
            <a:ext cx="3816360" cy="3767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756000" y="40464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4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756000" y="40464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4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706560" y="333360"/>
            <a:ext cx="526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синус угла А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вете укажит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уса, умноженно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8317080" y="1341360"/>
                <a:ext cx="593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Line 10"/>
          <p:cNvSpPr/>
          <p:nvPr/>
        </p:nvSpPr>
        <p:spPr>
          <a:xfrm flipH="1">
            <a:off x="826560" y="458136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826920" y="3357720"/>
            <a:ext cx="0" cy="122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901800" y="47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25800" y="378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973440" y="40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5"/>
          <p:cNvSpPr/>
          <p:nvPr/>
        </p:nvSpPr>
        <p:spPr>
          <a:xfrm>
            <a:off x="1187280" y="4365720"/>
            <a:ext cx="216000" cy="252360"/>
          </a:xfrm>
          <a:prstGeom prst="pie">
            <a:avLst/>
          </a:prstGeom>
          <a:noFill/>
          <a:ln w="381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6"/>
              <p:cNvSpPr txBox="1"/>
              <p:nvPr/>
            </p:nvSpPr>
            <p:spPr>
              <a:xfrm>
                <a:off x="4284720" y="3213000"/>
                <a:ext cx="41050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Text Box 17"/>
          <p:cNvSpPr/>
          <p:nvPr/>
        </p:nvSpPr>
        <p:spPr>
          <a:xfrm>
            <a:off x="82908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8"/>
              <p:cNvSpPr txBox="1"/>
              <p:nvPr/>
            </p:nvSpPr>
            <p:spPr>
              <a:xfrm>
                <a:off x="4211640" y="2349360"/>
                <a:ext cx="4464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О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9"/>
              <p:cNvSpPr txBox="1"/>
              <p:nvPr/>
            </p:nvSpPr>
            <p:spPr>
              <a:xfrm>
                <a:off x="5003640" y="3716280"/>
                <a:ext cx="248760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Text Box 20"/>
          <p:cNvSpPr/>
          <p:nvPr/>
        </p:nvSpPr>
        <p:spPr>
          <a:xfrm>
            <a:off x="3297960" y="357120"/>
            <a:ext cx="551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косинус угла А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вете укажит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инуса, умноженно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1"/>
              <p:cNvSpPr txBox="1"/>
              <p:nvPr/>
            </p:nvSpPr>
            <p:spPr>
              <a:xfrm>
                <a:off x="8172360" y="1413000"/>
                <a:ext cx="792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2"/>
              <p:cNvSpPr txBox="1"/>
              <p:nvPr/>
            </p:nvSpPr>
            <p:spPr>
              <a:xfrm>
                <a:off x="3995640" y="3213000"/>
                <a:ext cx="47181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3"/>
              <p:cNvSpPr txBox="1"/>
              <p:nvPr/>
            </p:nvSpPr>
            <p:spPr>
              <a:xfrm>
                <a:off x="4500720" y="3716280"/>
                <a:ext cx="3692520" cy="27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Text Box 24"/>
          <p:cNvSpPr/>
          <p:nvPr/>
        </p:nvSpPr>
        <p:spPr>
          <a:xfrm>
            <a:off x="3779280" y="907920"/>
            <a:ext cx="53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тангенс угла А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5"/>
              <p:cNvSpPr txBox="1"/>
              <p:nvPr/>
            </p:nvSpPr>
            <p:spPr>
              <a:xfrm>
                <a:off x="4500720" y="3284640"/>
                <a:ext cx="4032000" cy="30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∠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Дата 2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2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7DA4-03FF-484B-BA7D-79F1CDC2FA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ижний колонтитул 25"/>
          <p:cNvSpPr/>
          <p:nvPr/>
        </p:nvSpPr>
        <p:spPr>
          <a:xfrm>
            <a:off x="31431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Группа 18"/>
          <p:cNvGrpSpPr/>
          <p:nvPr/>
        </p:nvGrpSpPr>
        <p:grpSpPr>
          <a:xfrm>
            <a:off x="108000" y="1197000"/>
            <a:ext cx="3749760" cy="3700440"/>
            <a:chOff x="108000" y="1197000"/>
            <a:chExt cx="3749760" cy="3700440"/>
          </a:xfrm>
        </p:grpSpPr>
        <p:pic>
          <p:nvPicPr>
            <p:cNvPr id="203" name="Picture 5" descr="27454"/>
            <p:cNvPicPr/>
            <p:nvPr/>
          </p:nvPicPr>
          <p:blipFill>
            <a:blip r:embed="rId1"/>
            <a:stretch/>
          </p:blipFill>
          <p:spPr>
            <a:xfrm>
              <a:off x="108000" y="1197000"/>
              <a:ext cx="374976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/>
            <p:cNvSpPr/>
            <p:nvPr/>
          </p:nvSpPr>
          <p:spPr>
            <a:xfrm>
              <a:off x="1837440" y="3716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7d"/>
                  </a:solidFill>
                  <a:latin typeface="Arial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4"/>
          <p:cNvSpPr/>
          <p:nvPr/>
        </p:nvSpPr>
        <p:spPr>
          <a:xfrm>
            <a:off x="57204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4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0040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4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00400" y="42876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4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8"/>
          <p:cNvSpPr/>
          <p:nvPr/>
        </p:nvSpPr>
        <p:spPr>
          <a:xfrm>
            <a:off x="1332000" y="2421000"/>
            <a:ext cx="1871640" cy="576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1332000" y="2421000"/>
            <a:ext cx="576000" cy="12240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2869560" y="428760"/>
            <a:ext cx="551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косинус угла А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вете укажит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инуса, умноженно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1"/>
              <p:cNvSpPr txBox="1"/>
              <p:nvPr/>
            </p:nvSpPr>
            <p:spPr>
              <a:xfrm>
                <a:off x="8001000" y="1357200"/>
                <a:ext cx="9507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2" name="Text Box 20"/>
          <p:cNvSpPr/>
          <p:nvPr/>
        </p:nvSpPr>
        <p:spPr>
          <a:xfrm>
            <a:off x="3089880" y="500040"/>
            <a:ext cx="526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синус угла А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вете укажит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уса, умноженно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2"/>
              <p:cNvSpPr txBox="1"/>
              <p:nvPr/>
            </p:nvSpPr>
            <p:spPr>
              <a:xfrm>
                <a:off x="3929040" y="2143080"/>
                <a:ext cx="4973760" cy="318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ОВ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авнобедренный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К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ысота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медиана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биссектири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ОВК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авнобедренный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ВОА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3"/>
              <p:cNvSpPr txBox="1"/>
              <p:nvPr/>
            </p:nvSpPr>
            <p:spPr>
              <a:xfrm>
                <a:off x="6434280" y="4500720"/>
                <a:ext cx="2709720" cy="21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A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6370560" y="4500720"/>
                <a:ext cx="2773440" cy="21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A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Text Box 16"/>
          <p:cNvSpPr/>
          <p:nvPr/>
        </p:nvSpPr>
        <p:spPr>
          <a:xfrm>
            <a:off x="3355560" y="714240"/>
            <a:ext cx="53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тангенс угла А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"/>
              <p:cNvSpPr txBox="1"/>
              <p:nvPr/>
            </p:nvSpPr>
            <p:spPr>
              <a:xfrm>
                <a:off x="6357960" y="4786200"/>
                <a:ext cx="2490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Дата 1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1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103E-FD5E-4FCE-8720-6456A11DBA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357480" y="50004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4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27457"/>
          <p:cNvPicPr/>
          <p:nvPr/>
        </p:nvPicPr>
        <p:blipFill>
          <a:blip r:embed="rId1"/>
          <a:stretch/>
        </p:blipFill>
        <p:spPr>
          <a:xfrm>
            <a:off x="324000" y="1268280"/>
            <a:ext cx="3671640" cy="36244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57480" y="50004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4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57480" y="500040"/>
            <a:ext cx="20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74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2875680" y="428760"/>
            <a:ext cx="526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синус угла А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вете укажит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уса, умноженно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2512080" y="428760"/>
            <a:ext cx="551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косинус угла А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вете укажит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инуса, умноженно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8"/>
              <p:cNvSpPr txBox="1"/>
              <p:nvPr/>
            </p:nvSpPr>
            <p:spPr>
              <a:xfrm>
                <a:off x="7715160" y="1428840"/>
                <a:ext cx="9511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8" name="Прямая соединительная линия 11"/>
          <p:cNvSpPr/>
          <p:nvPr/>
        </p:nvSpPr>
        <p:spPr>
          <a:xfrm>
            <a:off x="357120" y="3071880"/>
            <a:ext cx="300060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0"/>
              <p:cNvSpPr txBox="1"/>
              <p:nvPr/>
            </p:nvSpPr>
            <p:spPr>
              <a:xfrm>
                <a:off x="4429080" y="2000160"/>
                <a:ext cx="3849840" cy="21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О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1"/>
              <p:cNvSpPr txBox="1"/>
              <p:nvPr/>
            </p:nvSpPr>
            <p:spPr>
              <a:xfrm>
                <a:off x="3786120" y="4071960"/>
                <a:ext cx="5106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5715000" y="5214960"/>
                <a:ext cx="28764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428760" y="4052880"/>
                <a:ext cx="2643120" cy="28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B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4"/>
              <p:cNvSpPr txBox="1"/>
              <p:nvPr/>
            </p:nvSpPr>
            <p:spPr>
              <a:xfrm>
                <a:off x="285840" y="4786200"/>
                <a:ext cx="29685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Text Box 16"/>
          <p:cNvSpPr/>
          <p:nvPr/>
        </p:nvSpPr>
        <p:spPr>
          <a:xfrm>
            <a:off x="3355560" y="714240"/>
            <a:ext cx="53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тангенс угла А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5"/>
              <p:cNvSpPr txBox="1"/>
              <p:nvPr/>
            </p:nvSpPr>
            <p:spPr>
              <a:xfrm>
                <a:off x="500040" y="4786200"/>
                <a:ext cx="238932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ОВ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Дата 2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2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8555-2E74-4D3E-9936-EB0088A8D4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етенникова И. А., ГОУ СОШ №386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Управляющая кнопка: возврат 23"/>
          <p:cNvSpPr/>
          <p:nvPr/>
        </p:nvSpPr>
        <p:spPr>
          <a:xfrm>
            <a:off x="8101080" y="6357960"/>
            <a:ext cx="1042920" cy="50004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5034" h="21600">
                <a:moveTo>
                  <a:pt x="0" y="0"/>
                </a:moveTo>
                <a:lnTo>
                  <a:pt x="45034" y="0"/>
                </a:lnTo>
                <a:lnTo>
                  <a:pt x="45034" y="21600"/>
                </a:lnTo>
                <a:lnTo>
                  <a:pt x="0" y="21600"/>
                </a:lnTo>
                <a:close/>
              </a:path>
              <a:path fill="lightenLess" w="45034" h="21600">
                <a:moveTo>
                  <a:pt x="0" y="0"/>
                </a:moveTo>
                <a:lnTo>
                  <a:pt x="45034" y="0"/>
                </a:lnTo>
                <a:lnTo>
                  <a:pt x="43634" y="1400"/>
                </a:lnTo>
                <a:lnTo>
                  <a:pt x="1400" y="1400"/>
                </a:lnTo>
                <a:close/>
              </a:path>
              <a:path fill="darken" w="45034" h="21600">
                <a:moveTo>
                  <a:pt x="45034" y="0"/>
                </a:moveTo>
                <a:lnTo>
                  <a:pt x="45034" y="21600"/>
                </a:lnTo>
                <a:lnTo>
                  <a:pt x="43634" y="20200"/>
                </a:lnTo>
                <a:lnTo>
                  <a:pt x="43634" y="1400"/>
                </a:lnTo>
                <a:close/>
              </a:path>
              <a:path fill="darkenLess" w="45034" h="21600">
                <a:moveTo>
                  <a:pt x="45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34" y="20200"/>
                </a:lnTo>
                <a:close/>
              </a:path>
              <a:path fill="lighten" w="45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034" h="21600">
                <a:moveTo>
                  <a:pt x="15510" y="7493"/>
                </a:moveTo>
                <a:lnTo>
                  <a:pt x="19018" y="7493"/>
                </a:lnTo>
                <a:lnTo>
                  <a:pt x="19018" y="12828"/>
                </a:lnTo>
                <a:cubicBezTo>
                  <a:pt x="19018" y="13751"/>
                  <a:pt x="19819" y="14482"/>
                  <a:pt x="20854" y="14482"/>
                </a:cubicBezTo>
                <a:lnTo>
                  <a:pt x="22517" y="14482"/>
                </a:lnTo>
                <a:cubicBezTo>
                  <a:pt x="23553" y="14482"/>
                  <a:pt x="24353" y="13751"/>
                  <a:pt x="24353" y="12828"/>
                </a:cubicBezTo>
                <a:lnTo>
                  <a:pt x="24353" y="7493"/>
                </a:lnTo>
                <a:lnTo>
                  <a:pt x="22517" y="7493"/>
                </a:lnTo>
                <a:lnTo>
                  <a:pt x="26024" y="3985"/>
                </a:lnTo>
                <a:lnTo>
                  <a:pt x="29697" y="7493"/>
                </a:lnTo>
                <a:lnTo>
                  <a:pt x="27861" y="7493"/>
                </a:lnTo>
                <a:lnTo>
                  <a:pt x="27861" y="12828"/>
                </a:lnTo>
                <a:cubicBezTo>
                  <a:pt x="27861" y="15596"/>
                  <a:pt x="25285" y="18155"/>
                  <a:pt x="22517" y="18155"/>
                </a:cubicBezTo>
                <a:lnTo>
                  <a:pt x="20854" y="18155"/>
                </a:lnTo>
                <a:cubicBezTo>
                  <a:pt x="18087" y="18155"/>
                  <a:pt x="15510" y="15596"/>
                  <a:pt x="1551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5:17:07Z</dcterms:created>
  <dc:creator>Веретенникова И. А. ГОУ СОШ №386</dc:creator>
  <dc:description/>
  <dc:language>en-US</dc:language>
  <cp:lastModifiedBy>Веретенникова И. А.</cp:lastModifiedBy>
  <dcterms:modified xsi:type="dcterms:W3CDTF">2011-04-25T16:14:12Z</dcterms:modified>
  <cp:revision>90</cp:revision>
  <dc:subject/>
  <dc:title>Решение задач на клетчатой бумаге.</dc:title>
</cp:coreProperties>
</file>